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72C-8C2D-4D4D-9A7E-5BBD0DB7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5E7-79BE-41A0-A8FC-FD4D2CBB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A7E-B84C-427F-950D-9A29B3AF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B97-5993-47F4-88C4-F054F6D1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C87-67C1-4602-9D20-93ECF0C9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415-29AE-4C56-9A90-7F874E9A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676-2786-4793-895A-9031257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E05-F2B3-45FB-AB80-62D06878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588-AF60-4BDC-ABF1-F7DA3E1E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48D-CE43-4E25-ADA8-436B4DE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E67-066E-4EEE-8F0F-EEF0E79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DF0-0829-4441-8E78-A505F82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6AF8-4348-4859-8624-519E9164A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2.png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733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מה תרצו שנאחל לכם לשנה החדשה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1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שלום ושלוו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2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בריאות ואהב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3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חיוך ושימח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4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מיליון שקלים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5120" y="1676520"/>
            <a:ext cx="5029200" cy="1295280"/>
            <a:chOff x="1905120" y="1676520"/>
            <a:chExt cx="5029200" cy="1295280"/>
          </a:xfrm>
        </p:grpSpPr>
        <p:sp>
          <p:nvSpPr>
            <p:cNvPr id="47" name=""/>
            <p:cNvSpPr/>
            <p:nvPr/>
          </p:nvSpPr>
          <p:spPr>
            <a:xfrm>
              <a:off x="1905120" y="1676520"/>
              <a:ext cx="5029200" cy="838080"/>
            </a:xfrm>
            <a:prstGeom prst="hexagon">
              <a:avLst>
                <a:gd name="adj" fmla="val 86568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Arial"/>
                  <a:cs typeface="Arial"/>
                </a:rPr>
                <a:t>האם זה סופי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8320" y="2590920"/>
              <a:ext cx="1676160" cy="380880"/>
            </a:xfrm>
            <a:prstGeom prst="hexagon">
              <a:avLst>
                <a:gd name="adj" fmla="val 63485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2590920"/>
              <a:ext cx="1676520" cy="380880"/>
            </a:xfrm>
            <a:prstGeom prst="hexagon">
              <a:avLst>
                <a:gd name="adj" fmla="val 63499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ffffff"/>
                  </a:solidFill>
                  <a:latin typeface="Arial"/>
                  <a:cs typeface="Arial"/>
                </a:rPr>
                <a:t>ל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1143000"/>
            <a:ext cx="449568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תהיה לכם</a:t>
            </a:r>
            <a:r>
              <a:rPr b="0" lang="he-IL" sz="2800" spc="-1" strike="noStrike">
                <a:solidFill>
                  <a:srgbClr val="ccccff"/>
                </a:solidFill>
                <a:latin typeface="Times New Roman"/>
                <a:ea typeface="Times New Roman (Hebrew)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נת שלום ושלוו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נת בריאות ואהב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נת חיוך ושמח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וגם מליון שקלים, שיהיה</a:t>
            </a:r>
            <a:r>
              <a:rPr b="0" lang="he-IL" sz="2800" spc="-1" strike="noStrike">
                <a:solidFill>
                  <a:srgbClr val="ccccff"/>
                </a:solidFill>
                <a:latin typeface="Times New Roman"/>
                <a:ea typeface="Times New Roman (Hebrew)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  <a:cs typeface="Times New Roman (Hebrew)"/>
              </a:rPr>
              <a:t>בקיצור, שתהיה שנה טוב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92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77320" y="137160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251460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914400" y="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0" y="99072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620120" y="60948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6629400" y="990720"/>
            <a:ext cx="2514600" cy="192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8077320" y="1104840"/>
            <a:ext cx="1066680" cy="94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6858000" y="83808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1523880" y="533520"/>
            <a:ext cx="594000" cy="52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457200" y="38160"/>
            <a:ext cx="1066680" cy="94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609480" y="1523880"/>
            <a:ext cx="594000" cy="52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8001000" y="4361040"/>
            <a:ext cx="746280" cy="66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5"/>
          <a:stretch/>
        </p:blipFill>
        <p:spPr>
          <a:xfrm>
            <a:off x="8305920" y="53341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6"/>
          <a:stretch/>
        </p:blipFill>
        <p:spPr>
          <a:xfrm>
            <a:off x="7620120" y="502920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685800" y="4813200"/>
            <a:ext cx="838080" cy="74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380880" y="4572000"/>
            <a:ext cx="594000" cy="52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533520" y="60199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990720" y="60199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1"/>
          <a:stretch/>
        </p:blipFill>
        <p:spPr>
          <a:xfrm>
            <a:off x="0" y="55627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2"/>
          <a:stretch/>
        </p:blipFill>
        <p:spPr>
          <a:xfrm>
            <a:off x="7315200" y="604836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3"/>
          <a:stretch/>
        </p:blipFill>
        <p:spPr>
          <a:xfrm>
            <a:off x="6248520" y="586728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4"/>
          <a:stretch/>
        </p:blipFill>
        <p:spPr>
          <a:xfrm>
            <a:off x="609480" y="1981080"/>
            <a:ext cx="59400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7:28:04Z</dcterms:created>
  <dc:creator>Ohadp</dc:creator>
  <dc:description/>
  <dc:language>en-US</dc:language>
  <cp:lastModifiedBy>liats</cp:lastModifiedBy>
  <dcterms:modified xsi:type="dcterms:W3CDTF">2004-08-16T07:28:02Z</dcterms:modified>
  <cp:revision>14</cp:revision>
  <dc:subject/>
  <dc:title>PowerPoint Presentation</dc:title>
</cp:coreProperties>
</file>