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9AB-0C71-4680-BABC-2EB4829A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E1C-BDC3-4892-96BC-53F3C294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B2B-D8F1-46FC-960A-B8BAE007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F1A-10FA-4F3B-86C5-EBF28E9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38F-CF00-4118-8783-3AA6134E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B7E-C8D5-4687-B5C6-FFACF91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F7E-0B1A-4BB7-935D-0B0F2DD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59A-14C7-49A3-A9C0-9960E1F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57D-5F56-4542-9B5B-89DAE43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997-96E6-443F-BA84-83B8A02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8B2-4C0A-46BC-820C-8CA9A8F6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874-F2A6-4DED-A1DC-F19A6E7B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AE2-1AF6-4744-8C06-6B4B88004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2.png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733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Arial"/>
                <a:cs typeface="Arial"/>
              </a:rPr>
              <a:t>מה תרצו שנאחל לכם לשנה החדשה</a:t>
            </a:r>
            <a:r>
              <a:rPr b="1" lang="he-IL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1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שלום ושלוו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2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בריאות ואהב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3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חיוך ושימח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9900"/>
                </a:solidFill>
                <a:latin typeface="Arial"/>
                <a:ea typeface="Arial"/>
              </a:rPr>
              <a:t>4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מיליון שקלים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1676520"/>
            <a:ext cx="5029200" cy="1295280"/>
            <a:chOff x="1905120" y="1676520"/>
            <a:chExt cx="5029200" cy="1295280"/>
          </a:xfrm>
        </p:grpSpPr>
        <p:sp>
          <p:nvSpPr>
            <p:cNvPr id="47" name=""/>
            <p:cNvSpPr/>
            <p:nvPr/>
          </p:nvSpPr>
          <p:spPr>
            <a:xfrm>
              <a:off x="1905120" y="1676520"/>
              <a:ext cx="5029200" cy="838080"/>
            </a:xfrm>
            <a:prstGeom prst="hexagon">
              <a:avLst>
                <a:gd name="adj" fmla="val 86568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ffffff"/>
                  </a:solidFill>
                  <a:latin typeface="Arial"/>
                  <a:cs typeface="Arial"/>
                </a:rPr>
                <a:t>האם זה סופי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8320" y="2590920"/>
              <a:ext cx="1676160" cy="380880"/>
            </a:xfrm>
            <a:prstGeom prst="hexagon">
              <a:avLst>
                <a:gd name="adj" fmla="val 63485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2590920"/>
              <a:ext cx="1676520" cy="380880"/>
            </a:xfrm>
            <a:prstGeom prst="hexagon">
              <a:avLst>
                <a:gd name="adj" fmla="val 63499"/>
                <a:gd name="vf" fmla="val 115470"/>
              </a:avLst>
            </a:prstGeom>
            <a:solidFill>
              <a:srgbClr val="0000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ffffff"/>
                  </a:solidFill>
                  <a:latin typeface="Arial"/>
                  <a:cs typeface="Arial"/>
                </a:rPr>
                <a:t>ל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1143000"/>
            <a:ext cx="44956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תהיה לכם</a:t>
            </a:r>
            <a:r>
              <a:rPr b="0" lang="he-IL" sz="2800" spc="-1" strike="noStrike">
                <a:solidFill>
                  <a:srgbClr val="ccccff"/>
                </a:solidFill>
                <a:latin typeface="Times New Roman"/>
                <a:ea typeface="Times New Roman (Hebrew)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שלום ושלוו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בריאות ואהב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שנת חיוך ושמח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ccff"/>
                </a:solidFill>
                <a:latin typeface="Times New Roman"/>
                <a:cs typeface="Times New Roman (Hebrew)"/>
              </a:rPr>
              <a:t>וגם מליון שקלים, שיהיה</a:t>
            </a:r>
            <a:r>
              <a:rPr b="0" lang="he-IL" sz="2800" spc="-1" strike="noStrike">
                <a:solidFill>
                  <a:srgbClr val="ccccff"/>
                </a:solidFill>
                <a:latin typeface="Times New Roman"/>
                <a:ea typeface="Times New Roman (Hebrew)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  <a:cs typeface="Times New Roman (Hebrew)"/>
              </a:rPr>
              <a:t>בקיצור, שתהיה שנה טו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92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77320" y="137160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2514600" cy="192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914400" y="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990720"/>
            <a:ext cx="2590920" cy="197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620120" y="6094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629400" y="990720"/>
            <a:ext cx="2514600" cy="192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077320" y="1104840"/>
            <a:ext cx="1066680" cy="94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6858000" y="8380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523880" y="533520"/>
            <a:ext cx="594000" cy="52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457200" y="38160"/>
            <a:ext cx="1066680" cy="94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609480" y="152388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8001000" y="4361040"/>
            <a:ext cx="746280" cy="66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8305920" y="53341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7620120" y="502920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685800" y="4813200"/>
            <a:ext cx="838080" cy="74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380880" y="4572000"/>
            <a:ext cx="594000" cy="52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533520" y="60199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990720" y="60199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1"/>
          <a:stretch/>
        </p:blipFill>
        <p:spPr>
          <a:xfrm>
            <a:off x="0" y="5562720"/>
            <a:ext cx="593640" cy="52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2"/>
          <a:stretch/>
        </p:blipFill>
        <p:spPr>
          <a:xfrm>
            <a:off x="7315200" y="60483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3"/>
          <a:stretch/>
        </p:blipFill>
        <p:spPr>
          <a:xfrm>
            <a:off x="6248520" y="5867280"/>
            <a:ext cx="593640" cy="52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4"/>
          <a:stretch/>
        </p:blipFill>
        <p:spPr>
          <a:xfrm>
            <a:off x="609480" y="1981080"/>
            <a:ext cx="5940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7:28:04Z</dcterms:created>
  <dc:creator>Ohadp</dc:creator>
  <dc:description/>
  <dc:language>en-US</dc:language>
  <cp:lastModifiedBy>liats</cp:lastModifiedBy>
  <dcterms:modified xsi:type="dcterms:W3CDTF">2004-08-16T07:28:02Z</dcterms:modified>
  <cp:revision>14</cp:revision>
  <dc:subject/>
  <dc:title>PowerPoint Presentation</dc:title>
</cp:coreProperties>
</file>