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drumroll.wav" ContentType="audio/x-wav"/>
  <Override PartName="/ppt/media/image7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media/ATT20547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E93-E8D7-4C03-B04F-5372A5C9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7EB-2932-4D1B-821D-B93068A0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B75-D09F-41D8-85BE-C167A3AA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4AD-E975-4777-A420-AEF0C3D5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04B-4FA8-4E86-A99A-8D1E7A09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286-C05E-4980-BEAA-ED5DAC1F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0EF-17BE-4D4D-9A95-7378EC44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06B-62ED-4A24-8A9A-29CA5D42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9EF-C373-4FD2-9C98-AC535443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7EE-F5BD-4464-8A67-9C84DCE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52F-3637-453B-B807-9F612A3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8B8-E9F9-4443-B8F1-75786CE4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431-F7A0-410C-9DB5-6A1936C1AE23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letaxi.co.il/demo.htm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audio" Target="../media/ATT20547.wav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האם אתה בלחץ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1828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נו, אתה מרגיש יותר טוב? כן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34340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אז תשלח את המייל הזה לכל החברים שאתה חושב שצריכים להירגע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197000"/>
            <a:ext cx="667404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3048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ם אתה שוב מתעצבן מכל דבר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9907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האם האוזן שלך כבר אדומה מרוב טלפונים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9640" y="47242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האם האצבעות כואבות מרוב הקלדה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2514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אתה בטח צריך משהו שירגיע אותך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080" y="1981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אז בוא, תפעל על פי ההוראות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57600" y="25146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) 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תגביר את הווליום למקסימום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3657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3) 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תשחרר את הברכיים ותתחיל לקפו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קודם כל, תסגור את הדלת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7080" y="530064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900"/>
                            </p:stCondLst>
                            <p:childTnLst>
                              <p:par>
                                <p:cTn id="20" nodeType="afterEffect" fill="hold" presetClass="path" presetID="5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2361 -0.06264 L 0.03368 -0.02912 C 0.0467 -0.02219 0.05399 -0.01156 0.05399 -0.00046 C 0.05399 0.01179 0.0467 0.02196 0.03368 0.0289 L -0.02361 0.06311 E">
                                      <p:cBhvr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1600200"/>
            <a:ext cx="61722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ותשיר בקולי קולות את המנגינה הבאה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במשך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 דקות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6360" y="1916280"/>
            <a:ext cx="5791320" cy="35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"TITITA TITUTU TIIIPATITITUUU,  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UTUTU TUTUTU TUTU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UTUTUUU TUTUTITITUU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HAHAH!!!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2022480" cy="696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867280" y="476280"/>
            <a:ext cx="1657440" cy="1465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16720" y="4151160"/>
            <a:ext cx="2232000" cy="1798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700360" y="404640"/>
            <a:ext cx="2616120" cy="1538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003640" y="5661000"/>
            <a:ext cx="1320840" cy="83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 rot="778800">
            <a:off x="2916360" y="5373360"/>
            <a:ext cx="1166760" cy="1222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68360" y="476280"/>
            <a:ext cx="115740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50920" y="270828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755640" y="4581360"/>
            <a:ext cx="1170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16:19:50Z</dcterms:created>
  <dc:creator>Thomas Illg</dc:creator>
  <dc:description/>
  <dc:language>en-US</dc:language>
  <cp:lastModifiedBy>Nir Zlotnik</cp:lastModifiedBy>
  <dcterms:modified xsi:type="dcterms:W3CDTF">2004-05-24T15:38:05Z</dcterms:modified>
  <cp:revision>19</cp:revision>
  <dc:subject/>
  <dc:title>PowerPoint-Präsentation</dc:title>
</cp:coreProperties>
</file>