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drumroll.wav" ContentType="audio/x-wav"/>
  <Override PartName="/ppt/media/image7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media/image9.gif" ContentType="image/gif"/>
  <Override PartName="/ppt/media/ATT20547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163-154F-4359-BC1C-F08DEBE4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870-F20D-4A6D-9C81-BD8E9BCF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35E-FA40-42BC-8F3E-6AA590CE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EDE-4A7A-4A74-9EA6-09FD6B42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518-0792-412F-86B2-7D5EA4E0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A76-9503-4B39-AF48-9BCC7431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EDC-3025-41C1-9AD7-FE12E1E6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0C1-F660-47DF-8C5A-83B8B789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7DD-F305-4459-91E7-9B395C44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3C9-5173-4C50-8C9D-5A48985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C96-07AB-4490-B854-3DC80727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73D-92D4-482E-9CDD-C5DEFCF2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1483-C2D7-4CA7-9830-B3B2A803A28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letaxi.co.il/demo.htm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audio" Target="../media/ATT20547.wav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האם אתה בלחץ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1828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נו, אתה מרגיש יותר טוב? כן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34340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אז תשלח את המייל הזה לכל החברים שאתה חושב שצריכים להירגע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197000"/>
            <a:ext cx="6674040" cy="44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3048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אם אתה שוב מתעצבן מכל דבר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9907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האם האוזן שלך כבר אדומה מרוב טלפונים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79640" y="47242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האם האצבעות כואבות מרוב הקלדה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25146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אתה בטח צריך משהו שירגיע אותך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1080" y="198108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אז בוא, תפעל על פי ההוראות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57600" y="25146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) 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תגביר את הווליום למקסימום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3657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3) 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תשחרר את הברכיים ותתחיל לקפו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קודם כל, תסגור את הדלת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77080" y="530064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900"/>
                            </p:stCondLst>
                            <p:childTnLst>
                              <p:par>
                                <p:cTn id="20" nodeType="afterEffect" fill="hold" presetClass="path" presetID="5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2361 -0.06264 L 0.03368 -0.02912 C 0.0467 -0.02219 0.05399 -0.01156 0.05399 -0.00046 C 0.05399 0.01179 0.0467 0.02196 0.03368 0.0289 L -0.02361 0.06311 E">
                                      <p:cBhvr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1600200"/>
            <a:ext cx="61722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ותשיר בקולי קולות את המנגינה הבאה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Arial"/>
              </a:rPr>
              <a:t>במשך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 דקות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6360" y="1916280"/>
            <a:ext cx="5791320" cy="35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"TITITA TITUTU TIIIPATITITUUU,  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UTUTU TUTUTU TUTU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UTUTUUU TUTUTITITUU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AHAHAH!!!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2022480" cy="696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867280" y="476280"/>
            <a:ext cx="1657440" cy="1465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516720" y="4151160"/>
            <a:ext cx="2232000" cy="1798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700360" y="404640"/>
            <a:ext cx="2616120" cy="1538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003640" y="5661000"/>
            <a:ext cx="1320840" cy="83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 rot="778800">
            <a:off x="2916360" y="5373360"/>
            <a:ext cx="1166760" cy="1222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68360" y="476280"/>
            <a:ext cx="1157400" cy="1871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250920" y="270828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755640" y="4581360"/>
            <a:ext cx="1170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16:19:50Z</dcterms:created>
  <dc:creator>Thomas Illg</dc:creator>
  <dc:description/>
  <dc:language>en-US</dc:language>
  <cp:lastModifiedBy>Nir Zlotnik</cp:lastModifiedBy>
  <dcterms:modified xsi:type="dcterms:W3CDTF">2004-05-24T15:38:05Z</dcterms:modified>
  <cp:revision>19</cp:revision>
  <dc:subject/>
  <dc:title>PowerPoint-Präsentation</dc:title>
</cp:coreProperties>
</file>